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D859-0E81-413D-A827-8D5DAA7E4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7960" y="418788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79B6-0A3B-455A-88AC-44859D84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1168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F580-27CC-4A94-97B7-2558AE88C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68776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86792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0796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68776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86792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B912-9E1A-4AA1-B8CB-CFFCB4DB6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9052-2D7B-4826-B275-6C579B170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7D81-E863-4F3D-AA2F-E9FC0FE4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AEF0-48F8-4E20-A615-47DFA79B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E291-8B88-4E70-B58D-6084D96F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182A-935F-46C0-A6CC-5DDE4E6F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07960" y="609120"/>
            <a:ext cx="6446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1786-FC59-4723-91E9-F3A3F9AF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8DFC-CC84-45CD-86B0-0112C3C5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C699-59C5-4EF4-B4D7-3CE73B2E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1168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B75E-D8D6-4F0A-B15F-0C0B8006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1168-26A4-4EFB-B6A2-5F737028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7960" y="418788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C9C1-AD9F-41AE-94CE-E73AD3E6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1168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EB12-9506-4578-85A4-7128B84E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68776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86792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0796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68776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86792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7B8A-D838-45E2-ADD0-789BDACA7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23F1F-4FCA-47DB-8E9F-D3AF93185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F3E97-2252-4799-AA95-0B4D2184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B6E7E-E31E-4C3A-BE1E-4532D407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3821E-D004-4098-B280-E83BBDF1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D39F4-96E6-4232-A3CA-B1AC951E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D658-44E6-4F04-9890-5AEC6B90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507960" y="609120"/>
            <a:ext cx="6446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18DB8-D4B6-40F6-9FE6-6A681EAC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AAEA7-3CDE-4C56-A988-7E192705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1168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B8536-783E-44A1-89D1-D01F77F2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A0FEA-4AC7-47AF-A85D-F90403B2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7960" y="418788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9B965-398B-4E8B-A9BD-ABF3E3E1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1168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150D2-7476-4F9E-BAFF-FB35C1F9C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8776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86792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0796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68776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86792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BAB34-3F85-4503-84FC-EECEE47D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CD461-0371-491C-9AED-D94DD1645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ACD57-2678-4574-9EA2-7304847E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B967D-F741-4767-ABA6-716BB6B4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FB11-A78E-4A19-B9CD-718600C9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2B254-3ECF-4822-964D-F3FC7BED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669E3-94F8-4278-B959-D40F24B5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07960" y="609120"/>
            <a:ext cx="6446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7A338-4D70-44CF-82DD-5F01F47C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AE58B-D95A-4575-B9C1-CC31B9BA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1168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501FF-E5A4-43BB-881B-A6668E0A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BF836-C7FD-4399-85C6-A203B036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7960" y="418788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73671-AD8B-4659-9FAC-8A20F45B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1168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DBD56-A530-451C-9B67-79FB66058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68776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6792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0796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68776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86792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07C0D-EE5F-4250-98E1-39060031C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1C98-4B2D-416D-AE6B-80A08082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507960" y="609120"/>
            <a:ext cx="6446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249F-8B55-4AC6-83E9-FF50642F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C0CF-C6B9-43F0-82B3-F6DFA063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1168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F22F-D04D-4540-8956-10A69DEE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0E28-20AA-42AE-9600-8E9EBDEA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9144000" cy="6865920"/>
            <a:chOff x="0" y="-7920"/>
            <a:chExt cx="914400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7028280" y="360"/>
              <a:ext cx="91440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5568840" y="3681720"/>
              <a:ext cx="357264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6886080" y="-7920"/>
              <a:ext cx="225540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7202520" y="-7920"/>
              <a:ext cx="194148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6699240" y="3048120"/>
              <a:ext cx="244476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7000920" y="-7920"/>
              <a:ext cx="214056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8174160" y="-7920"/>
              <a:ext cx="96732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8204400" y="-7920"/>
              <a:ext cx="93708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7778880" y="3590280"/>
              <a:ext cx="136260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33624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3960" y="6041520"/>
            <a:ext cx="684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507600" y="6041520"/>
            <a:ext cx="4722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3640" y="6041520"/>
            <a:ext cx="51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C728-C36F-430A-BB93-D75840954E1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9144360" cy="6865920"/>
            <a:chOff x="-360" y="-7920"/>
            <a:chExt cx="914436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7028280" y="360"/>
              <a:ext cx="91440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5568840" y="3681720"/>
              <a:ext cx="357264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6886080" y="-7920"/>
              <a:ext cx="225540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7202520" y="-7920"/>
              <a:ext cx="194148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6699240" y="3048120"/>
              <a:ext cx="244476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7000920" y="-7920"/>
              <a:ext cx="214056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8174160" y="-7920"/>
              <a:ext cx="96732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8204400" y="-7920"/>
              <a:ext cx="93708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7778880" y="3590280"/>
              <a:ext cx="136260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360"/>
              <a:ext cx="631800" cy="566568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3960" y="6041520"/>
            <a:ext cx="684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507600" y="6041520"/>
            <a:ext cx="4722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3640" y="6041520"/>
            <a:ext cx="51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62A0-A47F-4C89-AC8F-03C3BAD0BB8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9144000" cy="6865920"/>
            <a:chOff x="0" y="-7920"/>
            <a:chExt cx="914400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7028280" y="360"/>
              <a:ext cx="91440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5568840" y="3681720"/>
              <a:ext cx="357264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6886080" y="-7920"/>
              <a:ext cx="225540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7202520" y="-7920"/>
              <a:ext cx="194148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6699240" y="3048120"/>
              <a:ext cx="244476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7000920" y="-7920"/>
              <a:ext cx="214056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8174160" y="-7920"/>
              <a:ext cx="96732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8204400" y="-7920"/>
              <a:ext cx="93708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7778880" y="3590280"/>
              <a:ext cx="136260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33624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0644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66900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3960" y="6041520"/>
            <a:ext cx="684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507600" y="6041520"/>
            <a:ext cx="4722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3640" y="6041520"/>
            <a:ext cx="51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3FC5-7DD4-4573-92E6-BDA48DFC414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9144000" cy="6865920"/>
            <a:chOff x="0" y="-7920"/>
            <a:chExt cx="914400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7028280" y="360"/>
              <a:ext cx="91440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5568840" y="3681720"/>
              <a:ext cx="357264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6886080" y="-7920"/>
              <a:ext cx="225540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7202520" y="-7920"/>
              <a:ext cx="194148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6699240" y="3048120"/>
              <a:ext cx="244476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7000920" y="-7920"/>
              <a:ext cx="214056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8174160" y="-7920"/>
              <a:ext cx="96732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8204400" y="-7920"/>
              <a:ext cx="93708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7778880" y="3590280"/>
              <a:ext cx="136260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33624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0644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66900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3960" y="6041520"/>
            <a:ext cx="684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507600" y="6041520"/>
            <a:ext cx="4722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3640" y="6041520"/>
            <a:ext cx="51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8037-1710-45EB-9E7B-E507C418EEC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040" y="2404800"/>
            <a:ext cx="582444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АЦП и ЦАП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040" y="4051080"/>
            <a:ext cx="582444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Тема №3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Использование аналоговых фильтров согласно теореме дискретизации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142920" y="1214280"/>
            <a:ext cx="8715240" cy="27846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"/>
          <p:cNvPicPr/>
          <p:nvPr/>
        </p:nvPicPr>
        <p:blipFill>
          <a:blip r:embed="rId2"/>
          <a:srcRect l="45487" t="0" r="0" b="0"/>
          <a:stretch/>
        </p:blipFill>
        <p:spPr>
          <a:xfrm>
            <a:off x="1643040" y="3786120"/>
            <a:ext cx="53578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929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Схема активного фильтра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8143920" cy="3571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"/>
          <p:cNvPicPr/>
          <p:nvPr/>
        </p:nvPicPr>
        <p:blipFill>
          <a:blip r:embed="rId2"/>
          <a:stretch/>
        </p:blipFill>
        <p:spPr>
          <a:xfrm>
            <a:off x="0" y="4000680"/>
            <a:ext cx="91440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929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Фильтр с коммутируемой емкостью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46080" y="1000080"/>
            <a:ext cx="90979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6" descr=""/>
          <p:cNvPicPr/>
          <p:nvPr/>
        </p:nvPicPr>
        <p:blipFill>
          <a:blip r:embed="rId1"/>
          <a:srcRect l="50787" t="0" r="0" b="68580"/>
          <a:stretch/>
        </p:blipFill>
        <p:spPr>
          <a:xfrm>
            <a:off x="0" y="1357200"/>
            <a:ext cx="3187800" cy="2600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"/>
          <p:cNvPicPr/>
          <p:nvPr/>
        </p:nvPicPr>
        <p:blipFill>
          <a:blip r:embed="rId2"/>
          <a:srcRect l="0" t="0" r="53927" b="69538"/>
          <a:stretch/>
        </p:blipFill>
        <p:spPr>
          <a:xfrm>
            <a:off x="0" y="4218120"/>
            <a:ext cx="2984400" cy="25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"/>
          <p:cNvPicPr/>
          <p:nvPr/>
        </p:nvPicPr>
        <p:blipFill>
          <a:blip r:embed="rId3"/>
          <a:srcRect l="0" t="33334" r="53406" b="39207"/>
          <a:stretch/>
        </p:blipFill>
        <p:spPr>
          <a:xfrm>
            <a:off x="3071880" y="4467240"/>
            <a:ext cx="3017880" cy="22716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" descr=""/>
          <p:cNvPicPr/>
          <p:nvPr/>
        </p:nvPicPr>
        <p:blipFill>
          <a:blip r:embed="rId4"/>
          <a:srcRect l="50614" t="33744" r="0" b="39891"/>
          <a:stretch/>
        </p:blipFill>
        <p:spPr>
          <a:xfrm>
            <a:off x="2928960" y="1774800"/>
            <a:ext cx="3198960" cy="21826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"/>
          <p:cNvPicPr/>
          <p:nvPr/>
        </p:nvPicPr>
        <p:blipFill>
          <a:blip r:embed="rId5"/>
          <a:srcRect l="0" t="63117" r="54626" b="10929"/>
          <a:stretch/>
        </p:blipFill>
        <p:spPr>
          <a:xfrm>
            <a:off x="6205680" y="4591080"/>
            <a:ext cx="2938320" cy="21477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" descr=""/>
          <p:cNvPicPr/>
          <p:nvPr/>
        </p:nvPicPr>
        <p:blipFill>
          <a:blip r:embed="rId6"/>
          <a:srcRect l="51486" t="63389" r="0" b="10519"/>
          <a:stretch/>
        </p:blipFill>
        <p:spPr>
          <a:xfrm>
            <a:off x="6000840" y="1809720"/>
            <a:ext cx="3143160" cy="2147760"/>
          </a:xfrm>
          <a:prstGeom prst="rect">
            <a:avLst/>
          </a:prstGeom>
          <a:ln w="0">
            <a:noFill/>
          </a:ln>
        </p:spPr>
      </p:pic>
      <p:sp>
        <p:nvSpPr>
          <p:cNvPr id="278" name="Заголовок 1"/>
          <p:cNvSpPr/>
          <p:nvPr/>
        </p:nvSpPr>
        <p:spPr>
          <a:xfrm>
            <a:off x="214200" y="0"/>
            <a:ext cx="8929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c3c43"/>
                </a:solidFill>
                <a:latin typeface="Times New Roman"/>
                <a:ea typeface="Times New Roman"/>
              </a:rPr>
              <a:t>Резкость частоты отсечки и неравномерность фильт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929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Ступенчатый отклик фильтров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285840" y="1000080"/>
            <a:ext cx="828684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929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Ступенчатый отклик фильтров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357120" y="928800"/>
            <a:ext cx="76438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929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Выбор антиэлайзингового фильтра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857160" y="1000080"/>
            <a:ext cx="74296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929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Однобитовое преобразование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357120" y="1143000"/>
            <a:ext cx="785808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929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Однобитовое преобразование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428760" y="1000080"/>
            <a:ext cx="800100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929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Блок-схема </a:t>
            </a:r>
            <a:r>
              <a:rPr b="1" lang="en-US" sz="40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CVSD </a:t>
            </a:r>
            <a:r>
              <a:rPr b="1" lang="ru-RU" sz="40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модулятора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428760" y="1143000"/>
            <a:ext cx="771516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4294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Иллюстрация процесса оцифровк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5" name="Picture 29" descr=""/>
          <p:cNvPicPr/>
          <p:nvPr/>
        </p:nvPicPr>
        <p:blipFill>
          <a:blip r:embed="rId1"/>
          <a:srcRect l="0" t="0" r="54228" b="77369"/>
          <a:stretch/>
        </p:blipFill>
        <p:spPr>
          <a:xfrm>
            <a:off x="214200" y="785880"/>
            <a:ext cx="2678400" cy="1876320"/>
          </a:xfrm>
          <a:prstGeom prst="rect">
            <a:avLst/>
          </a:prstGeom>
          <a:ln w="0">
            <a:noFill/>
          </a:ln>
        </p:spPr>
      </p:pic>
      <p:grpSp>
        <p:nvGrpSpPr>
          <p:cNvPr id="216" name="Группа 31"/>
          <p:cNvGrpSpPr/>
          <p:nvPr/>
        </p:nvGrpSpPr>
        <p:grpSpPr>
          <a:xfrm>
            <a:off x="2928960" y="642960"/>
            <a:ext cx="6000840" cy="6111720"/>
            <a:chOff x="2928960" y="642960"/>
            <a:chExt cx="6000840" cy="6111720"/>
          </a:xfrm>
        </p:grpSpPr>
        <p:pic>
          <p:nvPicPr>
            <p:cNvPr id="217" name="Picture 30" descr=""/>
            <p:cNvPicPr/>
            <p:nvPr/>
          </p:nvPicPr>
          <p:blipFill>
            <a:blip r:embed="rId2"/>
            <a:srcRect l="0" t="22426" r="2912" b="3705"/>
            <a:stretch/>
          </p:blipFill>
          <p:spPr>
            <a:xfrm>
              <a:off x="2928960" y="669240"/>
              <a:ext cx="6000840" cy="608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Прямоугольник 30"/>
            <p:cNvSpPr/>
            <p:nvPr/>
          </p:nvSpPr>
          <p:spPr>
            <a:xfrm>
              <a:off x="3929040" y="642960"/>
              <a:ext cx="428400" cy="785520"/>
            </a:xfrm>
            <a:prstGeom prst="rect">
              <a:avLst/>
            </a:prstGeom>
            <a:solidFill>
              <a:srgbClr val="ffffff"/>
            </a:solidFill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19" name="Прямая со стрелкой 33"/>
          <p:cNvCxnSpPr/>
          <p:nvPr/>
        </p:nvCxnSpPr>
        <p:spPr>
          <a:xfrm>
            <a:off x="2714760" y="999720"/>
            <a:ext cx="1072080" cy="2520"/>
          </a:xfrm>
          <a:prstGeom prst="straightConnector1">
            <a:avLst/>
          </a:prstGeom>
          <a:ln cap="rnd"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929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Блок-схема дельта-сигма АЦП.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1"/>
          <a:stretch/>
        </p:blipFill>
        <p:spPr>
          <a:xfrm>
            <a:off x="0" y="1643040"/>
            <a:ext cx="90774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4294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Иллюстрация процесса оцифровк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rcRect l="0" t="43984" r="0" b="0"/>
          <a:stretch/>
        </p:blipFill>
        <p:spPr>
          <a:xfrm>
            <a:off x="642960" y="785880"/>
            <a:ext cx="79297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Иллюстрация корректной и некорректной дискретизации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285840" y="1143000"/>
            <a:ext cx="864396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Преобразование аналоговой частоты в цифровую в процессе дискретизации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8501040" cy="54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Дискретизация во временной и частотной област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7" name="Picture 7" descr=""/>
          <p:cNvPicPr/>
          <p:nvPr/>
        </p:nvPicPr>
        <p:blipFill>
          <a:blip r:embed="rId1"/>
          <a:srcRect l="52364" t="4501" r="0" b="67001"/>
          <a:stretch/>
        </p:blipFill>
        <p:spPr>
          <a:xfrm>
            <a:off x="428760" y="3929040"/>
            <a:ext cx="2903400" cy="2139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"/>
          <p:cNvPicPr/>
          <p:nvPr/>
        </p:nvPicPr>
        <p:blipFill>
          <a:blip r:embed="rId2"/>
          <a:srcRect l="51748" t="35669" r="0" b="33835"/>
          <a:stretch/>
        </p:blipFill>
        <p:spPr>
          <a:xfrm>
            <a:off x="3429000" y="3929040"/>
            <a:ext cx="2941560" cy="22906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3"/>
          <a:srcRect l="51748" t="35669" r="0" b="33835"/>
          <a:stretch/>
        </p:blipFill>
        <p:spPr>
          <a:xfrm>
            <a:off x="3357720" y="3929040"/>
            <a:ext cx="2941560" cy="2290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"/>
          <p:cNvPicPr/>
          <p:nvPr/>
        </p:nvPicPr>
        <p:blipFill>
          <a:blip r:embed="rId4"/>
          <a:srcRect l="51748" t="35669" r="0" b="33835"/>
          <a:stretch/>
        </p:blipFill>
        <p:spPr>
          <a:xfrm>
            <a:off x="3286080" y="3929040"/>
            <a:ext cx="2941560" cy="22906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"/>
          <p:cNvPicPr/>
          <p:nvPr/>
        </p:nvPicPr>
        <p:blipFill>
          <a:blip r:embed="rId5"/>
          <a:srcRect l="0" t="5026" r="52364" b="67168"/>
          <a:stretch/>
        </p:blipFill>
        <p:spPr>
          <a:xfrm>
            <a:off x="0" y="1428840"/>
            <a:ext cx="2903400" cy="2077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"/>
          <p:cNvPicPr/>
          <p:nvPr/>
        </p:nvPicPr>
        <p:blipFill>
          <a:blip r:embed="rId6"/>
          <a:srcRect l="52364" t="4501" r="0" b="67001"/>
          <a:stretch/>
        </p:blipFill>
        <p:spPr>
          <a:xfrm>
            <a:off x="142920" y="3929040"/>
            <a:ext cx="2903400" cy="21398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"/>
          <p:cNvPicPr/>
          <p:nvPr/>
        </p:nvPicPr>
        <p:blipFill>
          <a:blip r:embed="rId7"/>
          <a:srcRect l="0" t="36166" r="53391" b="35500"/>
          <a:stretch/>
        </p:blipFill>
        <p:spPr>
          <a:xfrm>
            <a:off x="3071880" y="1428840"/>
            <a:ext cx="2841480" cy="21272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"/>
          <p:cNvPicPr/>
          <p:nvPr/>
        </p:nvPicPr>
        <p:blipFill>
          <a:blip r:embed="rId8"/>
          <a:srcRect l="51748" t="35669" r="0" b="33835"/>
          <a:stretch/>
        </p:blipFill>
        <p:spPr>
          <a:xfrm>
            <a:off x="3143160" y="3929040"/>
            <a:ext cx="2941560" cy="2290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"/>
          <p:cNvPicPr/>
          <p:nvPr/>
        </p:nvPicPr>
        <p:blipFill>
          <a:blip r:embed="rId9"/>
          <a:srcRect l="0" t="66501" r="52980" b="4334"/>
          <a:stretch/>
        </p:blipFill>
        <p:spPr>
          <a:xfrm>
            <a:off x="5991120" y="1428840"/>
            <a:ext cx="2867040" cy="22032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10"/>
          <a:srcRect l="51950" t="66670" r="0" b="4974"/>
          <a:stretch/>
        </p:blipFill>
        <p:spPr>
          <a:xfrm>
            <a:off x="5929200" y="3929040"/>
            <a:ext cx="2928960" cy="21398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"/>
          <p:cNvPicPr/>
          <p:nvPr/>
        </p:nvPicPr>
        <p:blipFill>
          <a:blip r:embed="rId11"/>
          <a:srcRect l="0" t="36166" r="53391" b="35500"/>
          <a:stretch/>
        </p:blipFill>
        <p:spPr>
          <a:xfrm>
            <a:off x="3000240" y="1428840"/>
            <a:ext cx="2841840" cy="21272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"/>
          <p:cNvPicPr/>
          <p:nvPr/>
        </p:nvPicPr>
        <p:blipFill>
          <a:blip r:embed="rId12"/>
          <a:srcRect l="51748" t="35669" r="0" b="33835"/>
          <a:stretch/>
        </p:blipFill>
        <p:spPr>
          <a:xfrm>
            <a:off x="3071880" y="3929040"/>
            <a:ext cx="2941560" cy="22906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13"/>
          <a:srcRect l="51748" t="35669" r="0" b="33835"/>
          <a:stretch/>
        </p:blipFill>
        <p:spPr>
          <a:xfrm>
            <a:off x="3000240" y="3929040"/>
            <a:ext cx="294192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Дискретизация во временной и частотной област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rcRect l="0" t="0" r="0" b="49619"/>
          <a:stretch/>
        </p:blipFill>
        <p:spPr>
          <a:xfrm>
            <a:off x="0" y="1285920"/>
            <a:ext cx="91440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Дискретизация во временной и частотной област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rcRect l="52933" t="25002" r="0" b="25635"/>
          <a:stretch/>
        </p:blipFill>
        <p:spPr>
          <a:xfrm>
            <a:off x="428760" y="1214280"/>
            <a:ext cx="3844800" cy="5643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rcRect l="4084" t="73098" r="51334" b="3173"/>
          <a:stretch/>
        </p:blipFill>
        <p:spPr>
          <a:xfrm>
            <a:off x="4500720" y="4071960"/>
            <a:ext cx="3786120" cy="26607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"/>
          <p:cNvPicPr/>
          <p:nvPr/>
        </p:nvPicPr>
        <p:blipFill>
          <a:blip r:embed="rId3"/>
          <a:srcRect l="53822" t="73732" r="3374" b="2910"/>
          <a:stretch/>
        </p:blipFill>
        <p:spPr>
          <a:xfrm>
            <a:off x="4357800" y="1214280"/>
            <a:ext cx="38574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Дискретизация во временной и частотной област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rcRect l="52933" t="25002" r="0" b="25635"/>
          <a:stretch/>
        </p:blipFill>
        <p:spPr>
          <a:xfrm>
            <a:off x="785880" y="2286000"/>
            <a:ext cx="3844800" cy="4572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"/>
          <p:cNvPicPr/>
          <p:nvPr/>
        </p:nvPicPr>
        <p:blipFill>
          <a:blip r:embed="rId2"/>
          <a:srcRect l="4084" t="73098" r="51334" b="3173"/>
          <a:stretch/>
        </p:blipFill>
        <p:spPr>
          <a:xfrm>
            <a:off x="5357880" y="4071960"/>
            <a:ext cx="3786120" cy="26607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"/>
          <p:cNvPicPr/>
          <p:nvPr/>
        </p:nvPicPr>
        <p:blipFill>
          <a:blip r:embed="rId3"/>
          <a:srcRect l="53822" t="73732" r="3374" b="2910"/>
          <a:stretch/>
        </p:blipFill>
        <p:spPr>
          <a:xfrm>
            <a:off x="5214960" y="1214280"/>
            <a:ext cx="3857760" cy="29289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1"/>
              <p:cNvSpPr txBox="1"/>
              <p:nvPr/>
            </p:nvSpPr>
            <p:spPr>
              <a:xfrm>
                <a:off x="1643040" y="1357200"/>
                <a:ext cx="194940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f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f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  <m:r>
                              <m:t xml:space="preserve">s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3:49:10Z</dcterms:created>
  <dc:creator>Admin</dc:creator>
  <dc:description/>
  <dc:language>en-US</dc:language>
  <cp:lastModifiedBy>Давыдов М.В.</cp:lastModifiedBy>
  <dcterms:modified xsi:type="dcterms:W3CDTF">2017-09-27T12:12:40Z</dcterms:modified>
  <cp:revision>44</cp:revision>
  <dc:subject/>
  <dc:title>ЛИНЕЙНЫЕ СИСТЕМЫ</dc:title>
</cp:coreProperties>
</file>