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374-D1D1-40D3-8FBE-9C9F269B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F98-2D73-46A8-87D5-40EA6C20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890-5C6D-47B8-92A6-0883CE94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549-AECB-42BC-AF72-C88B6182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1127-9048-4922-9EC4-4D1302BF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95F-03A3-420A-B04E-B2BCB74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C95-7575-4DC4-B912-E362173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F72-DD7D-4C86-97FE-24D30C3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033-AFC3-49BC-BCE9-4F1BC13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66D-A4A2-45CD-8E87-8577617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C5FE-3A4D-4D93-8CFF-98CBF43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EB-4908-4700-83D3-B914908F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47A-D4A6-465F-B419-FFA7A7E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D11-42A2-43E8-BB6A-04058D2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74B4-C098-4D56-9437-39FDFED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8C15-66A8-4600-83CD-7AB36F1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08C-639B-403A-8F90-407335B0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1E1-3D4A-4BB4-9F2E-E40B277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45E-ED29-4B1A-A28C-82B1920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8AE-61E4-45F8-98E8-A40DCFD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C46-38CD-44FC-AE16-1B8AB0F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56E-98DA-4FB1-BD33-BF27B95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79C-5E58-4A56-B208-D91E199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844-4938-4846-969A-80058E7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539-6605-431E-8B5C-3B6B091139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613-50AD-466B-848C-ACE8CAC681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73080"/>
            <a:ext cx="84978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Универсальный асинхронный</a:t>
            </a:r>
            <a:br>
              <a:rPr sz="4000"/>
            </a:b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приемо-передатчик (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UART</a:t>
            </a: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я 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85080" cy="65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SCON0: Регистр управления UART0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572320" cy="11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85840" y="1863720"/>
            <a:ext cx="85723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араметры настройки таймера для стандартных скоростей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ередачи данных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562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араметры настройки таймера для стандартных скоростей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ередачи данных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31760" y="2109960"/>
            <a:ext cx="8880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S-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токол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071800" y="785880"/>
            <a:ext cx="5219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орядок обмена по интерфейсу RS-232C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48578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0" t="0" r="47951" b="5721"/>
          <a:stretch/>
        </p:blipFill>
        <p:spPr>
          <a:xfrm>
            <a:off x="5286240" y="1214280"/>
            <a:ext cx="3619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Структурная схема УАПП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28632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Гистерезис компаратора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682120" cy="468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Object 20"/>
          <p:cNvGraphicFramePr/>
          <p:nvPr/>
        </p:nvGraphicFramePr>
        <p:xfrm>
          <a:off x="1071720" y="5572080"/>
          <a:ext cx="2286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5572080"/>
                    <a:ext cx="228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2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23"/>
          <p:cNvGraphicFramePr/>
          <p:nvPr/>
        </p:nvGraphicFramePr>
        <p:xfrm>
          <a:off x="4643280" y="5572080"/>
          <a:ext cx="2714760" cy="114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5572080"/>
                    <a:ext cx="27147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25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Режимы работы UART0. 8-разрядный UAR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5857920" cy="317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22400" y="4627440"/>
            <a:ext cx="88992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Режимы работы UART0.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-разрядный UAR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5857920" cy="317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42920" y="4572000"/>
            <a:ext cx="8858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Поддержка связи с несколькими МК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265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85080" cy="65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SCON0: Регистр управления UART0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5840" y="660240"/>
            <a:ext cx="8572320" cy="11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5723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05:41Z</dcterms:created>
  <dc:creator>maxis</dc:creator>
  <dc:description/>
  <dc:language>en-US</dc:language>
  <cp:lastModifiedBy>maximmus</cp:lastModifiedBy>
  <dcterms:modified xsi:type="dcterms:W3CDTF">2009-02-24T10:52:49Z</dcterms:modified>
  <cp:revision>75</cp:revision>
  <dc:subject/>
  <dc:title>Система команд CIP-51</dc:title>
</cp:coreProperties>
</file>